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75230"/>
        <c:axId val="320719"/>
      </c:barChart>
      <c:catAx>
        <c:axId val="78675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719"/>
        <c:crosses val="autoZero"/>
        <c:auto val="1"/>
        <c:lblAlgn val="ctr"/>
        <c:lblOffset val="100"/>
        <c:noMultiLvlLbl val="0"/>
      </c:catAx>
      <c:valAx>
        <c:axId val="320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75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CCA-C8A8-4D9B-856C-D2140766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E18-5DA3-4F52-9560-A22045C6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C52F-CE4F-4406-8E1C-BBA9555A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EC0-29FC-4481-A8F1-31D892E7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AAB-6E97-4DDA-89FD-7107BCEC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2CB-D8F3-429A-AF8A-39BFDFF7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8B0-8514-41C2-92DE-071D59AC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CF6E-5BC8-4952-B377-51C18BEC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9B7-A000-416D-A77D-833CC19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24F-F55B-4883-BAF5-A5655F74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6605-65CA-4E5E-ACC5-C868742D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FCC1-81EC-4768-A58E-FABEC15B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657FB-1CB8-47B8-A686-B19F1E7461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