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17117"/>
        <c:axId val="48953760"/>
      </c:barChart>
      <c:catAx>
        <c:axId val="96171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53760"/>
        <c:crosses val="autoZero"/>
        <c:auto val="1"/>
        <c:lblAlgn val="ctr"/>
        <c:lblOffset val="100"/>
        <c:noMultiLvlLbl val="0"/>
      </c:catAx>
      <c:valAx>
        <c:axId val="489537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171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7CA4-26AE-4E59-B8B9-0236C2F50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BB32-3AB3-44C1-BEA3-61BB47F3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C027-44C8-4F83-B7D1-46C7A2263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2F45-EC74-425A-B382-2C58DBCE5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415C-B637-4843-830F-44CFC855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0743-4E2C-4704-95F3-7B9C86DB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B504-BBAA-460F-B1E4-2B44B701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FE31-E787-4E91-BB48-A5AF71C4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377E-CE3C-4390-B4B4-C23B683D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834E-09EC-4577-A2D1-55352D03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B54E-5F3B-4854-81AB-7E317F51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3A2C-7D08-4446-94B2-38676F80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46F3BB-C574-429F-8544-4C15A27654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