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70926"/>
        <c:axId val="7190695"/>
      </c:barChart>
      <c:catAx>
        <c:axId val="91270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0695"/>
        <c:crosses val="autoZero"/>
        <c:auto val="1"/>
        <c:lblAlgn val="ctr"/>
        <c:lblOffset val="100"/>
        <c:noMultiLvlLbl val="0"/>
      </c:catAx>
      <c:valAx>
        <c:axId val="7190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70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432-7C39-4CBA-A023-FE0B819F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32A-A18D-46E4-ADAF-10120577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203-A6A1-47CD-B43D-2B4F9DA6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7D7-9176-4491-BB4C-C50D94EA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217-A6A8-4B2E-8F1D-EF17B88B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11B-63D4-4C0D-BF59-5480D3FB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E31-6AFC-4FAD-A776-09F84B5A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FB1-E16E-4749-843C-B3904A7A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8B4-4394-45A3-8341-9E281512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D6D-13E4-4934-AC9D-938F411A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74A-5B91-41C6-9449-AD28A35E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461-C72D-47FC-A083-08CB858D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000EF-3029-4795-8CA9-A14697D4D3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