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05988"/>
        <c:axId val="13485863"/>
      </c:barChart>
      <c:catAx>
        <c:axId val="71505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85863"/>
        <c:crosses val="autoZero"/>
        <c:auto val="1"/>
        <c:lblAlgn val="ctr"/>
        <c:lblOffset val="100"/>
        <c:noMultiLvlLbl val="0"/>
      </c:catAx>
      <c:valAx>
        <c:axId val="13485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05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572-3A75-439C-9B57-05CFE13B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F57-EAF4-4021-A04D-5B0929D3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27D-F322-4A42-B612-7A6A9C0C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908-693E-4CE7-9014-720F1B98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374-7880-4869-AF97-F104D485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F0D-1FE3-4F34-ADBC-061A4B47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CA8-2167-4E9F-9C27-D3E8AFD1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A71-9F4E-42D5-88FB-0872A677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7C6-5A87-4B90-943B-754D1AB8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1BE-09CC-46E9-A47E-C0239C3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38B-609E-4A85-8EB7-EF7AFAF6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FAE-C0AA-4DC4-96C9-FD6CA33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3DD98-B598-4939-8C2C-48E9E73C67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