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9369"/>
        <c:axId val="279943"/>
      </c:barChart>
      <c:catAx>
        <c:axId val="4749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943"/>
        <c:crosses val="autoZero"/>
        <c:auto val="1"/>
        <c:lblAlgn val="ctr"/>
        <c:lblOffset val="100"/>
        <c:noMultiLvlLbl val="0"/>
      </c:catAx>
      <c:valAx>
        <c:axId val="279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9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437-BBE6-4BBE-9EBB-AF7A2869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421-D29D-46A4-AB2F-68902BE6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FB0-7020-4009-83FE-9FAF0A8A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CC4-0568-4739-99F6-61A75803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D07-D3EE-4690-8FD7-B9C1405D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A17-1C01-41D6-8529-EB428030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74A-DFC2-45C2-93C8-32D2E4FB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A29-F644-41A9-96B8-29FA9645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354-F0C0-49D7-9FC2-5246D98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0CF-C3CD-4FF9-872E-FE50DE1F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776-2D15-4F51-9E57-AEBBF7F7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072-1131-41CA-B951-994FB05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9E6D6-C4E0-4A57-A24F-C55BD1CD0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