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19640"/>
        <c:axId val="42927782"/>
      </c:barChart>
      <c:catAx>
        <c:axId val="65019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27782"/>
        <c:crosses val="autoZero"/>
        <c:auto val="1"/>
        <c:lblAlgn val="ctr"/>
        <c:lblOffset val="100"/>
        <c:noMultiLvlLbl val="0"/>
      </c:catAx>
      <c:valAx>
        <c:axId val="42927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19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43B-9F23-4E6F-AD32-84E0DBC3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9E0-7411-48B9-987B-6DD5F664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0B5-6D70-4D20-9311-A80E7529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B8B-8C1D-4B02-973A-B1C68D04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052-4E02-492A-BD40-2C578C2C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C5C-E557-460C-80D9-7C27237F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013-0244-4E06-B419-FF297F26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22E-836E-464D-A8AD-62407390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3EF-764E-4CCD-8EE1-E63510DE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421-903C-45B1-A82A-F956DA9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174-E965-42D3-A968-30D5836B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FDB-FDAA-448F-BDDF-841B3F6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65286-6BD5-46E2-AB6E-415A7A620E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