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43916"/>
        <c:axId val="47248307"/>
      </c:barChart>
      <c:catAx>
        <c:axId val="12943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8307"/>
        <c:crosses val="autoZero"/>
        <c:auto val="1"/>
        <c:lblAlgn val="ctr"/>
        <c:lblOffset val="100"/>
        <c:noMultiLvlLbl val="0"/>
      </c:catAx>
      <c:valAx>
        <c:axId val="47248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43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5F1-6889-4832-AA22-0D284D42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D91-1131-478D-9868-BFCE1A8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823-9080-4A04-9844-DEF022E6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8EE-5211-4FA5-9BF1-F5BAE7F3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8AC-1BDB-4C9C-992A-478BC7BC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3D6-0E52-4FAF-AC6C-84296E6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7A-0183-4AB3-8F65-022F129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2EB-8FB7-4D24-B5DB-BB353FF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A2B-DF2E-4789-B0DA-FE7AE00E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428-176F-41E1-AD38-55A9A9B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8BC-0A03-4484-B10F-A8B179B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382-7D38-4D0F-99C2-71D35A0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B8128-6552-4D77-97BD-155A1CB4CD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