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370642"/>
        <c:axId val="62440318"/>
      </c:barChart>
      <c:catAx>
        <c:axId val="53370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40318"/>
        <c:crosses val="autoZero"/>
        <c:auto val="1"/>
        <c:lblAlgn val="ctr"/>
        <c:lblOffset val="100"/>
        <c:noMultiLvlLbl val="0"/>
      </c:catAx>
      <c:valAx>
        <c:axId val="62440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70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B54-9C48-45BD-9A3D-3EB5C285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DB5-21A1-4C1C-9080-62886EAB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2591-399D-4C5D-827C-44CDCB9A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542-4EDC-47ED-8149-46DDFE89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CC7-C636-4B7E-9425-08A34E2B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C7C-6B5C-4757-9902-229B2105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1EB-84D5-4616-8708-5E0DB79A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EFD5-7C24-438E-A659-BF75FD74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87C-8633-4C97-A280-DB641CAD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382-8AA3-48DE-BB18-D4ED2785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0D2-16C3-428F-9038-4DD04933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7FC-AED8-44F4-9338-78DB5CED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70082-80E3-497A-BA53-E338F76135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