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43233"/>
        <c:axId val="28182614"/>
      </c:barChart>
      <c:catAx>
        <c:axId val="80443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82614"/>
        <c:crosses val="autoZero"/>
        <c:auto val="1"/>
        <c:lblAlgn val="ctr"/>
        <c:lblOffset val="100"/>
        <c:noMultiLvlLbl val="0"/>
      </c:catAx>
      <c:valAx>
        <c:axId val="28182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43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98B-2EC5-4C01-904E-B849FD1C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F31-57A5-4865-8633-8676E546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0AF-E209-4104-9422-6F267DE2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23F-FE11-4153-BAF3-93F5CEA0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FD4-D314-41C1-9A25-E2F74CA4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814-F0C9-4044-82A7-900CA91A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29E-AFD5-4BC5-85C5-7C7841FA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A5A-16E3-44B1-8E0C-F15B2A28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10F-56B1-4DCA-B0D1-7A0B058F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9E5-EA36-458E-A6FB-E5FDC4AF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C2D-CA86-4D07-92D5-DC28061D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357-5683-43C9-AB03-2D84DA0D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A2877-3C89-42A9-9E50-F14C8CFF91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