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1454"/>
        <c:axId val="39777335"/>
      </c:barChart>
      <c:catAx>
        <c:axId val="8621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77335"/>
        <c:crosses val="autoZero"/>
        <c:auto val="1"/>
        <c:lblAlgn val="ctr"/>
        <c:lblOffset val="100"/>
        <c:noMultiLvlLbl val="0"/>
      </c:catAx>
      <c:valAx>
        <c:axId val="39777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1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47E-093B-45E6-AB85-C2300209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958-97E5-4B92-A583-BBE6120E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EE0-AD91-49B0-A504-1C80D935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A36-FCB9-48A3-BA44-EA571A85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38B-F550-420A-909E-01AFF0D8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4A2-546D-439C-AFA8-B74F9F55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B54-BCD3-4CC0-BF23-9F3BB47D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5C5-C584-4171-A025-3A42056C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256-E845-43D4-86F2-62CADCCA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3CE-4F41-4B78-BFD1-9F313543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5E0-2DCD-4CC2-A02A-3569A19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475-C092-4FF2-B2CA-39797C5F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701DD-CC17-40D8-83FB-EC282B0BBF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