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445529"/>
        <c:axId val="85525906"/>
      </c:barChart>
      <c:catAx>
        <c:axId val="574455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525906"/>
        <c:crosses val="autoZero"/>
        <c:auto val="1"/>
        <c:lblAlgn val="ctr"/>
        <c:lblOffset val="100"/>
        <c:noMultiLvlLbl val="0"/>
      </c:catAx>
      <c:valAx>
        <c:axId val="855259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4455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7511-AEEB-4E77-9625-DF2CF1FFC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A639-23D8-4404-88B4-5D0E8AE0D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99F4-491C-48DF-8621-58D66FEF7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A1AA-3DC3-4B24-BAAE-39FB38D10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FCB0-4FEB-48DA-92EE-3161510CC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EC4A-0BCF-4E61-9C16-E3A5BC15F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B02F-C9EC-40DC-B3D4-5140D9A39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3113-F1E1-4FF1-91CC-02AEFE8CC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6459-0757-4BEA-8832-21B5ED748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FDA6-F942-4B25-9606-00559BBA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954B-D0B4-4B0B-BB5A-BDECD028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63B8-9370-48BE-905D-7A001B1D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C985DC-FEC3-4DF9-B127-41E97D88ECE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