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382190"/>
        <c:axId val="71255053"/>
      </c:barChart>
      <c:catAx>
        <c:axId val="473821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255053"/>
        <c:crosses val="autoZero"/>
        <c:auto val="1"/>
        <c:lblAlgn val="ctr"/>
        <c:lblOffset val="100"/>
        <c:noMultiLvlLbl val="0"/>
      </c:catAx>
      <c:valAx>
        <c:axId val="712550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3821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11A6-51D2-4517-8CBE-DB8DF625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5BE5-1D4F-4B76-8DC4-59B9D42C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3B63-E397-4AAA-A3FD-700D43129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E63D-2DB0-46A8-8BE3-3E02468B9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3A5D-1E5E-4720-AFAE-42365B6A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3707-A68C-4930-AEBC-CEEB8E12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B672-B3EC-45D7-94A4-D17B30EB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FB6A-4216-4CFA-9BF6-7D7B81EF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FAA4-D994-4185-AD42-099E62F9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293F-C0A3-4CBA-B3C7-021E8FEF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8011-1460-4FD0-BA6F-BD89DEF8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E1D9-2A2F-4405-8A0D-8DA07DA8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38A43C-F7A5-4303-BCB2-45FB9E4E0D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